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C6A-F0D6-42EA-84CA-93B61A39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164-6BB0-429E-A61A-B90C1930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B12F-70DC-4288-8F38-94AF86DC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04C5-9FA9-4296-9AFB-A0FA1F0D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B75-3707-4882-8185-E20F0D0C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B410-D900-48AE-80F8-DB1B28F2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B29-66E4-40C1-B78A-14E582CD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CAEE-018D-43B8-A546-1F792D58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9A36-8574-405E-8F13-B8BCC280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DC45-35BC-45E8-A5CE-DAD09351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80A-B831-4083-BE47-94B4BDCC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C0A1-0179-47F1-9C2F-2F302D77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C433-5E41-4509-B653-4AAE6113D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al network training scri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@FIT, Brno University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.sh configs/config_XYZ.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rate sched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me insertion penalty t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ave scripts which can perform full experiment with HMM/ANN hybrid in phoneme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Train neural networks for phoneme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Pass test and CV data through the neural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Estimate phoneme insertion penalty for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Decode tes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Score phoneme tra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2720" y="3213000"/>
            <a:ext cx="180036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requency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ral patte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spe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4720" y="2637000"/>
            <a:ext cx="12258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44720" y="3213000"/>
            <a:ext cx="1225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4720" y="4508640"/>
            <a:ext cx="12258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1080" y="3860640"/>
            <a:ext cx="0" cy="505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3573360"/>
            <a:ext cx="12254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3573360"/>
            <a:ext cx="12254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64360" y="3573360"/>
            <a:ext cx="12254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9080" y="285264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9080" y="285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29080" y="342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9080" y="47260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872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872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8720" y="4726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285264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3080" y="378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378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53080" y="378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1440" y="378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have normalization and neural network but does not ne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layers from the neural network can be cut o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3429000"/>
            <a:ext cx="100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429000"/>
            <a:ext cx="100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3429000"/>
            <a:ext cx="100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68720" y="3429000"/>
            <a:ext cx="100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3429000"/>
            <a:ext cx="100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72360" y="3429000"/>
            <a:ext cx="100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3429000"/>
            <a:ext cx="100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656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71640" y="38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38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76720" y="38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38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80360" y="38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532720" y="38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38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s in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pattern extraction – extract desired block (Temporal Patterns, frequency slices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 – attenuates signal at the edges of tempor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transform (DCT, PCA…) – down-samples signal, preserve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zation – adjusts dynamic range and offset of features to NN we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transform – dimensionality reduction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function (Log) – gaussianization of 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429000"/>
            <a:ext cx="100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3429000"/>
            <a:ext cx="100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3429000"/>
            <a:ext cx="100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68720" y="3429000"/>
            <a:ext cx="100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3429000"/>
            <a:ext cx="100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2360" y="3429000"/>
            <a:ext cx="100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3429000"/>
            <a:ext cx="100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6560" y="38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38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38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38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27640" y="38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38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532720" y="38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38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est – estimation of HMM parameters, here estimation of normalization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et – training of NN, evaluation of frame error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eaCat – forward pass through trans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ite – de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opy – parameterization of speech to mel-bank ener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Results – evaluation of phoneme error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Parse – compilation of phoneme network for dec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List – info about feature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vn co svn+ssh://merlin.fit.vutbr.cz/svn/STK/tr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needs ATLAS/BLAS and BO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aining 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vn co svn+ssh://merlin.fit.vutbr.cz/svn/NN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htk.eng.cam.ac.uk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pts/config/global.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ntains all predefine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paths to the directory with you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pts/config/*.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files for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e careful about input files, about S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se_sge=0/1) and about temp (use_tmp=0/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05:21:37Z</dcterms:created>
  <dc:creator>.</dc:creator>
  <dc:description/>
  <dc:language>en-US</dc:language>
  <cp:lastModifiedBy>.</cp:lastModifiedBy>
  <dcterms:modified xsi:type="dcterms:W3CDTF">2007-11-30T23:47:46Z</dcterms:modified>
  <cp:revision>9</cp:revision>
  <dc:subject/>
  <dc:title>Neural network training scripts</dc:title>
</cp:coreProperties>
</file>