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F6C-38CC-42BC-8467-EC727782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071-ECB4-4ADD-BA4E-40E4CA55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1A2-03B2-4E01-AF5A-5EEF1871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BEE-342E-4FE0-B05F-A195DAA6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744-DB55-4D9E-AF86-CDD649D2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447-F72D-4EDC-A270-7A2CAE0C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47C-8EB1-4337-8E0F-F21ED387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639-AE54-499E-AD23-F32E2FE3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4F3-D2B8-41AE-B075-917FAA4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AA4-3566-4944-B5C0-0313CED0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468-315B-4982-B7D1-47F217BD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BFA-C225-4994-87A4-DFD8C4E3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C92A-F461-482B-BD4B-53CC7AD7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K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7080" y="35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@FIT, Brno University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taken as a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trans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&lt;Transpose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_row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_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BlockCopy&gt; n_blocks n_rows n_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_ro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step_ro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end_ro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tart_co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step_co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end_co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_ro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step_ro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end_ro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tart_co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step_co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end_co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linea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Sigmoid&gt; vec_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SoftMax&gt; vec_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a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Log&gt; vec_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– Temporal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NumLayers&g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Layer&gt; 1 &lt;Stacking&gt; 31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Layer&gt; 2 &lt;Transpose&gt; 23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Layer&gt; 3 &lt;NumBlocks&gt;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Block&gt; 1 ~x “nn1” &lt;Block&gt; 2 ~x “nn2”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Layer&gt; 4 Log 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Layer&gt; 5 ~x “merger_n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33440" y="1628640"/>
            <a:ext cx="6191280" cy="1468440"/>
            <a:chOff x="1333440" y="1628640"/>
            <a:chExt cx="6191280" cy="1468440"/>
          </a:xfrm>
        </p:grpSpPr>
        <p:sp>
          <p:nvSpPr>
            <p:cNvPr id="103" name=""/>
            <p:cNvSpPr/>
            <p:nvPr/>
          </p:nvSpPr>
          <p:spPr>
            <a:xfrm>
              <a:off x="1692360" y="1628640"/>
              <a:ext cx="1800000" cy="115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40360" y="1700280"/>
              <a:ext cx="100800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40360" y="2060640"/>
              <a:ext cx="100800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0360" y="2421000"/>
              <a:ext cx="100800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2360" y="184464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92360" y="256536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2360" y="220500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63640" y="1700280"/>
              <a:ext cx="1657440" cy="28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63640" y="2060640"/>
              <a:ext cx="1657440" cy="28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63640" y="2421000"/>
              <a:ext cx="1657440" cy="288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8360" y="184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8360" y="2565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48360" y="2205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92720" y="1844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64000" y="2205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72360" y="2060640"/>
              <a:ext cx="100800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80360" y="2205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6000" y="27288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33440" y="16286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2060640"/>
              <a:ext cx="719280" cy="28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7640" y="2205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~x "stream1_n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NumLayers&gt;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Layer&g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XformPredef&gt; 100 368 Random -0.1 0.1 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Layer&gt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BiasPredef&gt; 100 Random -4.1 -3.9 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Layer&g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Sigmoid&gt;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Layer&gt;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XformPredef&gt; 40 100 Random -0.1 0.1 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Layer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BiasPredef&gt; 40 Random -4.1 -3.9 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Layer&gt;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SoftMax&gt;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K use a format for model definition derived from H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2720" y="2854440"/>
            <a:ext cx="165564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6520" y="3070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5240" y="30700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781360"/>
            <a:ext cx="42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jection under HMM state prob. di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bservation probability for HMM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oring to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763280" y="3286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32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4869000"/>
            <a:ext cx="237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~o &lt;InputX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VecSize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Xform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2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4724280"/>
            <a:ext cx="305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x “transform_i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Xform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2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~o &lt;InputX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VecSize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~x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form_id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3440" y="42926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output vecto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916360" y="479736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80" y="42926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ro1.ft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9440" y="42926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cro2.ft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ward pass through trans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FeaCat can read the HTK feature files, pass the feature vectors through transforms and store them back to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FeaCat –S fea_file_li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–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 macro1.ft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   –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utput_d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ools can read more macro (hmm definition) files using repetition of the –H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d to rotate features, generate new features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Xform&gt; = Matrix multiplication (y = C *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takes vector of features (x) and produce another vector (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708280"/>
            <a:ext cx="144000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2708280"/>
            <a:ext cx="43200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2708280"/>
            <a:ext cx="43164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1440" y="256536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8520" y="3068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3520" y="2637000"/>
            <a:ext cx="347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&lt;Xform&g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_size in_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11 c12 …  c1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…   …   …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M2 cM2 …  c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140360" y="5229360"/>
            <a:ext cx="36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s can be comp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combination of trans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NumLayers&gt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Layer&g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x “tr_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Layer&gt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x “tr_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NumBlocks&gt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lock&g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x “tr_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lock&gt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~x “tr_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2637000"/>
            <a:ext cx="172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3213000"/>
            <a:ext cx="172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5300640"/>
            <a:ext cx="172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5300640"/>
            <a:ext cx="1726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501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s can stack fr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frame is augmented with N-1 previous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&lt;Stacking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_frames vector_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ecessary to repeat first and las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FeaCat –S fea_file_list –H macro1.f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–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utput_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--start-frm-ext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--end-frm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o frames to pass and two frames to future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47640" y="2565360"/>
            <a:ext cx="5832360" cy="863640"/>
            <a:chOff x="1547640" y="2565360"/>
            <a:chExt cx="5832360" cy="863640"/>
          </a:xfrm>
        </p:grpSpPr>
        <p:sp>
          <p:nvSpPr>
            <p:cNvPr id="82" name=""/>
            <p:cNvSpPr/>
            <p:nvPr/>
          </p:nvSpPr>
          <p:spPr>
            <a:xfrm>
              <a:off x="3704040" y="2750400"/>
              <a:ext cx="3675960" cy="43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67040" y="2811240"/>
              <a:ext cx="1140120" cy="308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me n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71960" y="2811240"/>
              <a:ext cx="1140120" cy="308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me n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6880" y="2811240"/>
              <a:ext cx="1140480" cy="308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m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47640" y="2565360"/>
              <a:ext cx="3171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29240" y="2565360"/>
              <a:ext cx="3171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09040" y="2565360"/>
              <a:ext cx="3171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79640" y="2996280"/>
              <a:ext cx="63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cto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constant vector (x = x +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Bias&gt; vct_siz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…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by constant vector value by value (x = x *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Window&gt; vct_siz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…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ordering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Copy&gt; out_vct_size in_vec_size src_start1:src_step1:src_end1 src_start2:src_step2:src_end2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constant vectors are predef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BiasPredef&gt;, &lt;WindowPredef&gt;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BiasPredef&gt; vct_size Hamming n_re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BiasPredef&gt; vct_size Triang n_re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BiasPredef&gt; vct_size Const 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BiasPredef&gt; vct_size Random min_val max_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BiasPredef&gt; vct_size LinSpace start_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d_val n_re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 linear transforms can be pred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&lt;XformPredef&gt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_size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_size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 DC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clude_c0{0/1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&lt;XformPredef&gt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_size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_size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st 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&lt;XformPredef&gt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_size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_size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ag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&lt;XformPredef&gt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_size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_size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min_val max_val 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2:32:35Z</dcterms:created>
  <dc:creator>.</dc:creator>
  <dc:description/>
  <dc:language>en-US</dc:language>
  <cp:lastModifiedBy>.</cp:lastModifiedBy>
  <dcterms:modified xsi:type="dcterms:W3CDTF">2007-07-20T05:10:46Z</dcterms:modified>
  <cp:revision>8</cp:revision>
  <dc:subject/>
  <dc:title>Snímek 1</dc:title>
</cp:coreProperties>
</file>